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8CE-D88C-4592-B991-A4ED9F8D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A7B-05C7-455C-A39F-45E67D47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2EB-36D8-4688-9A15-CD735941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BA3-0038-4734-B732-0564D1E8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721-6110-452F-9F49-6F19993E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9F0-AD4A-46AB-953F-792716AE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E24-064B-4ED2-B4AC-8F13251A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0C8-814A-42A8-9C45-BDFA8F62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A66-33F8-406D-B3D9-09FE12F4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30F-EC63-4368-96F9-F3AA8C06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AED-5568-480F-B48E-11627313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EA0-CDC7-4C54-BAD4-2460F9DB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4A64-E754-4AAB-A983-DDC85B6E1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8763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ntence Varie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d Word Choic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8769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mas Greenaway, Jodi Seligman, Michael Crowe, David Wilen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0"/>
            <a:ext cx="8015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RUCE UP YOUR SENTENCES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105520"/>
            <a:ext cx="3353040" cy="13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og chased its tail. (si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4800600"/>
            <a:ext cx="380988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BETTE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The dog chased its tail while running around the field. (compl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880" y="304920"/>
            <a:ext cx="8177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ATCHING ga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743200"/>
            <a:ext cx="8229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b fell down the stai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b fell down the stairs, but he didn’t hur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b, who is very clumsy, fell down the stai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b, who is very clumsy, fell down the stairs, but he didn’t hur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876920"/>
            <a:ext cx="7391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ound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3520" y="152280"/>
            <a:ext cx="78483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SWERS TO MATC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733920"/>
            <a:ext cx="327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-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-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compound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380880"/>
            <a:ext cx="8715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ps for Varifying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r Sentence Structu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1828800"/>
            <a:ext cx="7467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mon Conjunctive Adver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819520"/>
            <a:ext cx="2514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qu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rther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743200"/>
            <a:ext cx="1981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ident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verth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2743200"/>
            <a:ext cx="20574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eth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5335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ntence Structure Continu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2057400"/>
            <a:ext cx="851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mon Transitional Express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27672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n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2004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312408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ther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cont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other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66680" y="228600"/>
            <a:ext cx="7239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nstead of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15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udents sat in the classroom while the teacher lectu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is friendly, and the cat is m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81080" y="289548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etter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648320"/>
            <a:ext cx="7772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cher lectured; however, the students could not pay attention and consequently failed the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is friendly and makes its owner happy; on the other hand, the cat is mean and mischevi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685800"/>
            <a:ext cx="850572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ORD CHOI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743200"/>
            <a:ext cx="396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Wor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kind of house? What size? Where?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419720"/>
            <a:ext cx="4038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kind of animal? What is its name? What color?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2743200"/>
            <a:ext cx="3809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DJECTIV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rge, wooden, three-story house on Main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at, black, green-eyed cat named Bon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66680" y="380880"/>
            <a:ext cx="7058160" cy="17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IVID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5909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l to the s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3581280"/>
            <a:ext cx="7772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ece of pizza tasted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licious pepperoni piece of pizza tasted like it was home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inting was beauti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oquent Picasso painting was full of vibrant colors and deep shad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43:41Z</dcterms:created>
  <dc:creator>User</dc:creator>
  <dc:description/>
  <dc:language>en-US</dc:language>
  <cp:lastModifiedBy>User</cp:lastModifiedBy>
  <dcterms:modified xsi:type="dcterms:W3CDTF">2006-10-10T15:35:23Z</dcterms:modified>
  <cp:revision>2</cp:revision>
  <dc:subject/>
  <dc:title>Slide 1</dc:title>
</cp:coreProperties>
</file>